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35A-D5C1-47DB-90BE-7420DC1D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21F-06E1-4BBD-B099-01489B3C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11B-8E8B-48EF-AD72-33969D49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3C5-8C33-4BE3-8F2C-1E1074D6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CE05-ECB1-4F61-B385-9C0A958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9352-021E-4968-B0F2-1819B51D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CAF0-20E2-40FB-B62A-C89E1E4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056-13FE-4BAF-B70B-8EA52EE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4636-44FC-43DD-B6FF-3DED4104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927-8F37-4602-BCF1-2B0AC80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9026-C55A-465E-A09F-AE2CA81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0EC-191D-492E-B697-00601C50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9935-AB79-47D5-BEAF-863F06E4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8647-A432-4E48-824A-B92EC755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4035-3EA1-41B3-B491-04A15EBF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51FF-CDD9-441C-806E-8AC35283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A1E4-BBBA-4465-8521-CB4B6995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588-0DBC-416C-8B53-9A6BF2D4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607-6C6C-49E3-8370-68DE0A49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10D-22C1-458A-B33F-377C0489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3E6-9314-4526-BD26-56A0E3F7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938-FECA-4444-95EF-992D16D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23D-D500-4C38-AA1C-90018B6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EA6-CA88-428D-8DC4-249730CB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96B-2D49-4E8D-BE0D-7184A2C3785F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815E-B7E0-4A08-B241-B8D126E40156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ecff"/>
                </a:solidFill>
                <a:latin typeface="Arial"/>
              </a:rPr>
              <a:t>ALTE ROMANE  REALISTE INTERBELICE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9T10:53:4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